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4D0-2B9B-4E80-A6E3-3C38467F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E844-7E3E-465A-BDBC-4E14FAAC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4EFA8-9B89-471E-AF57-DAB45623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F5AD2-83E9-4774-A74C-DB0A0E1B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FD226-E4A9-4542-845F-8F501955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335B9-06EA-4956-832C-312D6714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9786D-56A7-411B-8195-47116D32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E3E60-8233-4478-A728-9BB99DBB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DCC47-68F7-473B-8EA0-EB281BEC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8544F-9B11-4D38-B175-D49F382D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D0E27-A5A9-48AB-A751-E792E549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8DC23-EF49-4088-A8C2-E5095CAF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222B-8E3D-40AF-84A3-92604101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99971-5166-42FB-B3E9-65FA75EA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0A4D2-CA63-4091-A9DE-DE9DDA9C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09A99-0EE1-4628-96FA-B471F019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13D3B-5974-40CA-A8CB-92ECBC4D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5E324-48E0-459C-8804-C19E80B3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968C3-40FF-46FA-87C8-20BF38CF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433F8-06E2-408E-9124-8C1644AE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5E450-9643-47EC-9EA6-E190D6F9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AA4AE-028A-44CC-8C75-7FB1AAB1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D02E4-A4F9-46C0-BCCD-D4433EC0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2AC2-287C-431D-BC51-DF3A92F7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3DAD0-55E9-489B-A332-541F2C2B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576FE-6018-4992-B763-455498A9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33EAC-BD26-4D5D-95AA-10CACBE4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F487B-5265-449E-B9A2-D870DA7E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AD600-1CCC-4675-B373-D0653E94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D0C87-D83A-44B2-AC20-0F169459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7037A-A966-4B07-9BC7-A823D9A1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5466B-0415-4DD5-AF0F-32435242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477AA-EB00-4440-BA5E-6E467D66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36DCF-D106-4B66-8922-39640EFA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EB35-EFC4-4A80-BE9B-140A9251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E018C-99DA-4844-9734-140E208C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90379-9815-448A-9D80-0C7F8B65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6A671-179A-45E8-8004-2A67198C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A65B5-7AE2-4A61-9CAF-2A512732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7CF8E-412F-4697-8797-44A75CEB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0D2FB-A21F-436A-99E4-C9DD3819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4A3A5-8868-4996-87F2-BEA117D9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B6FB6-5B4B-43A6-90F7-38DF9B49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930DD-92E0-4AFA-AEC7-8588E383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77CD5-820B-49D6-B299-94A218D1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C6B4-05CF-4E2A-B89F-F444A2E5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A5168-4D85-46FB-80EF-1747537A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1630A-FC9E-4425-9347-A4E2835B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E159D-E18D-4B3A-9C98-9DCC3AB7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98739-351A-4FE0-9877-42203E18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47779-8D83-4C59-B8C6-AD044BC9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BF57-8DCF-43B4-A9DC-B2274B1E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2F53-7418-4516-8849-E3B786DF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91BB-1DB0-46B0-A706-44A7F7D5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4E44-33E9-427E-8C61-EB6E2BD9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6F75-82DD-4927-8FE3-024A6924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A83-A3DE-4770-93E1-DA412BC4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E770-8437-4645-83D7-1A32A295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37D5-A196-4398-BA27-DA9006A2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C571-9139-4433-A6A8-A8A4F0C5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96E4-B5E7-44BD-B7BA-CA2600F6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990A-86FF-4D88-9A2C-78AAE326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70B49-D2C0-4987-8324-814B63A6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1C390-6DF2-4019-A5B4-F79FB527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B2E9D-7189-4003-89EC-99EE98FA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87AC6-AF5D-4C3F-B3CD-61325470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5846D-0BD8-4BB0-A07C-10CE6C50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DA0-7C33-4E65-A79B-3D7227F6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B9C92-1DA6-4D54-A8DE-31889855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6576E-4A39-40DA-B9C4-58F37A88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CF62D-9E17-40D1-929B-87B9E1DC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46ABE-A996-4810-922A-CED7777D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1EC08-86EA-4498-B8B3-8AB66929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75199-10C2-446F-91C7-10FF29C9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2E84B-F939-49DC-AA03-8F4FDFFD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73180-B3FF-4CF0-9B5A-CB604DCD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C0433-AD26-439F-8525-84CABAEA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89897-88F7-4C3C-86C3-C589E85A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C42-FC63-4E4E-A1FA-4FACB44C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5AAC1-7A8D-4863-95C2-29F6CA8C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3A849-B3A9-45E9-818C-3FC3F932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921D1-A096-42F5-9042-940084CE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85139-D1EB-4C7D-80B0-6F91F0BA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F5799-72BD-4872-B6FB-F79280F6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35F8B-238E-41D6-95E4-30DB1765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3F210-2ABA-4D5A-BCDE-B77A5B85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B01A0-47A7-4B28-A661-AB49DB4E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B79A4-D8D5-41F0-B4C3-88F04174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09E52-7FB1-439B-82E5-03C2167B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4C30-6171-4518-BA64-0F3CF211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29123-2C33-417C-9F2D-70F4D2FC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210E3-36DB-4FB3-B6C3-2789A447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008AC-4E60-43E4-99AA-6606BF8F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62A8D-5119-40A1-8C29-1E48F3D1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7A042-532C-4509-8315-EC83E54C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32D16-1649-466B-82E0-0842B2E0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77086-463E-4B1B-BB3E-FDF4CBF2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E98EC-B52A-4E05-A1F1-96DEA26F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E8C8C-DB29-4872-AA94-0793EE25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61DB4-6889-4E2E-83EA-E0FEDDE7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A7C-F0BA-4424-AE60-EED67BD6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BBE0F-3D28-4D6D-AC8A-869240D0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5D72B-CA06-48B5-956E-720E6AB1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D3EFB-2A98-40AA-90B2-484B5D8D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B99A5-E611-4E30-BBBB-664062CC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02B9C-1A20-496C-BDFD-A51BE35E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9A179-C736-4E52-A8D6-3B14EC0B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CE532-2609-4411-926D-DBF19D01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9D052-7097-42E3-886A-882879AC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1C8D5-EF05-4423-80F4-D7AA1E42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35452-E0D1-4C59-AE8E-85CF0482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608-B027-4A43-9B92-2AF214E4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A4398-2A6D-4756-AEDD-1668D7CD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CD7D6-CEB2-47BB-86AB-74169BE9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DE81B-8D3D-4BC7-8DCB-ADB6E268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C6339-2907-4780-BA93-DAFFA8B7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E7B24-72B4-46DD-8D25-B3A753FA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42B87-3734-499E-8F73-D367A204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0FABF-51EA-49AE-AAF0-36342B3A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99685-3091-42B9-9F33-AFFF1E57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6348D-B860-494D-BDEA-2925F33E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96B1D-97B4-410A-8432-DE62F205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E48E-6158-44C0-B8DC-A7B95B3F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682F9-435F-497B-ADE8-4E26C260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A7C90-4783-45B6-8F26-72A42EBA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67FE7-E139-4E74-9599-626BF306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02709-5AEA-41FF-A956-8DE0C8B4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BCD95-A31F-42F7-9F45-2E6BD3E1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C7ADA-59DF-489F-B7C0-BE16FABD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A539D-C7A4-48F0-8C70-D0C4152A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1A89E-B34D-4D1A-84A1-D4485BC9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2858F-947A-4DDA-A720-A8505B01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BDD07-108E-4678-AC5D-1EC2FBC0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D29-E1E8-47DE-AF69-BF5DEAC0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058AD-DC49-4A58-93EC-A6E906D7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33FB3-5F28-4F6A-8C92-F5BDD28D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C3A96-BBAA-44D3-88A4-09D48EC8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57B41-9542-435E-9498-0E825C03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B86DF-8BB6-45BB-959E-E7CCC9C9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03327-0EC3-4D6E-93DB-3C0735D3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2DCCC-83DC-47E8-B39F-C10A8016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49361-8381-4A84-B288-479AF15B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06720-3C24-4A1B-886B-BFB725E9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F75B1-6AFF-4AF8-BCE1-7E53767A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C13D-7A10-4365-AC0F-A60EDCFC832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89C5-DD05-4D1A-B43E-A89E898D346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B868-7448-40E2-99B4-662D7F65926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0105-E9F1-4A0E-AE0B-3A5842D45C5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8519-849F-465F-94BE-891C87F585F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A2D0-ECEA-42A4-8168-51781262531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4A9B-A615-49F2-8843-E615D69C7C9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2A8E-1B3D-432A-B87B-F876890E4B0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960F-EBAB-4FD2-9F26-9808EB633A2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E65E-3E9A-40B0-B5AA-40C92C34BE7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9B7C-B225-498D-B9EA-801B4607BB0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922A-10C7-41FF-9FA6-85C3E698138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10 Krok za krok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ok za krokom vedie k cieľ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 svoj verný ľu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vahu a nádej smel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slovo vlieva v hru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e žiť z Božej moc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 vždy listom Kristový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íriť svetlo v sveta noc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me vždycky hotov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kerný hoc nepriateľ rá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ŕním stelie cestu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hňom skúšok, úskalím strá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domovu nás viesť chce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rmutok a úzkosť v duš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môže viera nezdol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aľ, čo srdce niekdy krúš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a milosť preko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dôverou vždy za Ježiš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ytrvalo kráča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sť o Božej láske ľuď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šene vždy hlásaj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ťazná je naša ces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keď vedie nás vždy vpre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, kde chystá pre nás mies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vedie nás naposled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29:37Z</dcterms:modified>
  <cp:revision>22</cp:revision>
  <dc:subject/>
  <dc:title>Je veľký náš Pán, on slávy je Kráľ Nech do všetkých strán  spev vrúcnych znie chvál.</dc:title>
</cp:coreProperties>
</file>